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220-A8A8-4ADE-92FF-8B67F976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9AD-027A-4A6C-A525-7FA055D1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3EA8E-98BE-48D7-81F4-331CA979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DFEFB-A6B4-4682-AE1B-17C5C57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9965-0D94-43E9-A061-A9238B96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3E6A6-E605-4126-98FD-1397783D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7C7E-5B18-47F5-A786-6D4EFB4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ABD9F-1B77-4D36-B401-DC208092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FEA33-DA9D-40B3-B8B0-2C09C0BE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C9D5C-2E69-45C7-A14D-AF230835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AF01C-69BA-4942-967A-3E266F3F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F2D5C-6DB9-487E-84B4-AA56C754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938-C8C4-452A-A7F1-5DC8ED8E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C8826-A9D1-4B9D-BC97-3AB4E4C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EB6C2-3F48-4ED5-8281-2C194C17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E94D7-53DE-4917-920F-DFA535F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6E215-2E64-4D39-A3B7-37A2D21A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E15AD-EA58-4E01-8802-21F0D97E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A7BAA-391A-4BAE-92DC-EB0680E7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09DF3-8402-44F8-B80A-C105E388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89201-0EC3-4CB3-A79C-11E356D8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722B7-BA69-4CBB-AF63-B2846676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88464-5631-472D-A940-6D1766E7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2B2-8EFC-4225-AB67-9E27E715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7B140-C51B-45DB-B1E0-3E229289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82B2B-A8FB-40BF-B86E-819F4FAB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C9D39-53C1-4D92-8274-251159C3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2B139-B7CA-4B4E-AA99-E70A7F06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7281A-B86D-43D0-98A5-00E5E93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CC3CC-2493-46D3-9081-66230E0B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307A4-EDCC-4460-A765-0FD96FE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234B8-B257-4661-893A-7C9F71C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0B478-58A5-4FF9-95E0-F527DFAE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72359-2423-4723-B59B-6E8C304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EC6D-2AA1-4C66-B1E8-BBD67E0D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EBAD3-AD54-4ACD-8304-C67AF252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80362-A338-4CCD-991D-D748B0E1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84971-C4A3-4FAC-A197-D353CCCD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953FD-E85E-4B81-8046-B04BDE0A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19E19-87ED-49ED-B743-97A39091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1A9F2-C7A7-4BE5-B74D-6C87B910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156AE-54A2-47FB-9608-0B2AB0F8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8D6AC-DB40-47E4-B35A-4AED1898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BD274-D1FD-4B91-8775-B3C5663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7CE17-67BB-4181-A370-DC12DE0A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64FF-8D92-41DB-B35C-91EE8B98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3DF34-A76B-43FA-85EB-3EC15F34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ABE5C-3644-4466-A79A-6BFE58C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E9117-A254-4ADC-9C8F-D8EAA8E8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D2BC1-0812-4C2D-A9FE-2158F9EA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720AD-4A53-4C52-8812-528EEC2B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59E8E-2C12-420A-976F-4126C96E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8408E-62EE-4E4F-B36D-4D381EF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C3816-D28D-4D6A-BE7C-79E68DF5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8446D-A468-4AB0-9539-610A043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C02FD-164B-4EA6-A601-308F360F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686C-FE65-408C-8C3C-EF32EAC8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3BC69-B3FC-4FE6-BC98-E7387EB8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EA131-5C28-4DFA-9F38-3533F76B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E2FFC-84DB-482E-9097-4558F7C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33177-17AE-45C0-8047-A46E72F1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36392-FEDC-476E-ADF6-9E36DA60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0022A-D929-440B-861D-1539BC29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C9384-E328-47B5-8429-0058ECCF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198BC-6492-4929-889E-693E4BD5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C400A-C079-4D66-8439-82F193A9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A47AC-6A40-4480-AE45-5FEEC913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23CB-DC89-491F-AB6B-E63D5628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94FC7-9886-47E0-9195-CBA9D493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85A3B-0198-4AAF-BC24-3D5515BE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69A0A-D75A-476C-AF1B-F408B751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44322-1BE6-4390-9EBC-797FD65D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1D079-34BE-4AE5-A8D6-A481B3EC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61C0E-2DED-4115-A380-6AA642B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6EB2A-774A-4D2E-B627-0065D9DC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49FF4-0D7B-40E9-8040-D9E5DB8B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B5AB0-C213-4558-BEC9-CF25CF70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D285B-EE0F-4AA9-8BE1-441C736B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D974-3B64-404B-B9E0-0D795B6B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CEC9A-C00A-47B3-AE54-E2DA0304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F94CA-D59B-4F80-AFDC-52880C75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DC3D3-0204-4DEC-B8FD-82AB0B48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3F39E-4355-4070-8BAC-791413DF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86C47-9446-428B-9DC7-C9618ED0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2AE30-6200-4BAD-AE9E-ED1434A0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4B7B9-8804-4695-B899-8B6583A6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846B0-D3A9-443B-8F9C-682E6F77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A032C-4227-494D-B686-30262AF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2E0E3-D530-4C05-B6D1-74132B65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211-445C-45C8-927E-BD058855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15F9C-01AE-401E-9EA9-588459C2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AC723-9E73-4D8F-B33E-2D265193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C09B2-3295-44BD-9538-97523647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C9E84-FA53-4650-ACE6-7DE6E8F8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A4C5F-5D9B-46EB-B543-C72A6FBE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E442E-7D84-4770-A193-3AAC134D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DF74F-C922-41A2-9714-1255CBA2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4A9D7-0239-4E9B-8B1E-8FC7CEB0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FA917-E49A-47CD-85C7-E472E75A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FBB52-F2F4-4BC2-A0BD-CF97853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C85B-B594-42E1-BF97-633E18BB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4C77D-A5ED-492D-945F-88253C41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7FEE8-A488-406D-B9B8-56F44321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89DAB-4699-4D82-9FBA-74D19B1D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64B28-DD97-484F-A80A-7460F0D2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7C0FB-DBA4-49D6-91AA-CD98BE9B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838E22-F374-4A6D-B5CF-4E44DD7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5EF7E-DE6B-4D80-ABBC-05D42A5F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7297F4-7CA1-481F-A4DB-5E5A74B0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6215A-BEBA-4D1D-BC9C-BB3CC0EC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C3701-7C0E-4C98-90F8-0610E2A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0B0-C52D-47A2-89A6-9B1847C7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B971-C2F7-49A9-AEB6-3A09AA4B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BFA7D-ADFB-4034-9F9D-D605AEBB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BF9BC-55AD-4DA3-8934-EF3B47FF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C0F77-6A9E-43CE-8044-96B4AC3E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156F6-FB95-442A-BCB1-D00E776D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4348E-B9C6-470B-BA77-97B9917E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99836-1844-4F48-9238-907D51E5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46E38-CBE7-49C3-A3E7-6B3161B5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70235-E22E-4EBD-B26A-5F8F5212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B6E87-5EC1-48E4-B0FD-A8F0C551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CC1C4-EEC8-4968-B320-B3DCE9B0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0858-C282-473D-8E6C-563A5B86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3FD78B-0CDC-48AB-A41D-00536B7F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5EB64-0BA6-40D8-AA59-B1FDA8C6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03345-683D-4D78-A6DB-8676D4B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7845FA-3199-4C4F-AF38-83641A88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C3FDC7-5F10-42B2-905C-0DACA720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CCA71-0B0B-4270-BE90-9DDE48E6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4B233-EE1C-47E4-9842-40796293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16EA6-5812-4BAF-A49E-2C058666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63AD94-86A7-42A6-A074-2FF905D8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2EF58-789C-4809-B944-F358A6E3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DC57-3F1B-4C5F-9300-C67CBD44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E6A70-04A0-4CF1-9C1A-E3D0D972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BF8E2-6E57-4657-8DA6-8FD4B4BB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D9C68-ED8C-4212-BC2B-E3CE3A77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BC67D-3844-4AE3-A004-E0FA29EF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E72511-4AF9-48F6-8F7C-AD65CF90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A3CC66-7730-47DA-B013-7C0338C5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B18F7E-F303-4F78-A494-7D5B0EA3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B3935-1EA9-466B-8F3F-46263679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53610-64EF-4338-85AB-DB9FB2B6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7E127-1929-4158-9524-B816FDFE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4BA0-D0EE-41AB-9598-6BB8165B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A2579-4A88-48DE-877A-B8261749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EE1D1-0BE0-4B49-99F5-8C5B8EAD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9A1E0-7B81-4BE0-B8B9-0FCBE286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13181F-7347-4E17-9AC0-15A892E0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F4353-AEE7-49F2-A218-20B629C4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BA7ED0-4BD9-45E6-8137-8271AB9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8EE0B-F920-4EBE-BE9B-33BA27B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96CE6-5D7B-42C6-805C-E8921BD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F41212-7C67-45F5-A73F-974231F6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1AEDC-C1EC-4217-8ECB-7F1B0329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BE3A-5A30-4AEA-A5CB-2DAF4FA7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90276-E50A-4381-A966-A5486C05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9989A-28F1-4FED-AF7F-7F712D30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E57D5-9227-4C15-95E7-4B3AFFF4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CA72A1-6416-4600-875F-5EE59F4D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D6E40-6B81-4B2C-83F3-25619E4C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DCF31-9BB3-4984-BADA-AFE11083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99BD6-C02E-45E6-9F7F-47098291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5894E-E464-4C87-AB53-3A86E1F0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31CEF3-C91A-4BB4-B272-D69C730B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799C0-2A30-4264-B9B0-663D112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8DFFC-FB85-4A96-90DD-A1841CE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2179C-69E9-4CCF-8B3F-7DC25677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77362-B643-4584-A393-BC3495E9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1F4-82D3-4E13-BB51-A2B84F05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8C96E-403B-4539-8A02-7A56589A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028E-C07F-49D0-BD36-C1C39776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E44B-5801-4777-836B-66C7ACD2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1A1-893F-498F-B1FF-546227C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05B0-2A43-426D-B1AA-643B29B1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8F1E-16AC-4E57-9869-12CC9E75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262AD-E894-43C4-B1FD-39F61AAD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D95B-B858-48BC-B91D-7EBFC5C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4DF4-6275-4FDA-BB70-B8D1E832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342B-57A0-44B0-B345-D783F95D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32E9-CF24-4679-B6A9-609215EB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A61C-7447-448B-B17A-FAA9E9B4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90BF-9B66-458E-A7ED-9247218E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5590-9D02-449A-BDE3-AE57D191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E52-E302-4FCC-AB34-985A73A4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19D7-A52E-4CE7-B218-BE00147B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EA11-C626-431E-949D-B9122284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B820-9DFB-4F3B-B5A5-63F86CFF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863EE-4BD0-44B9-9122-12A2DA3B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2F24-BDCC-4164-A84D-8F7F6F7E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7C0F-77A3-4CCF-9F7D-6F610E0C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3086B-768D-4A0B-A978-6394D610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BC20-B1B6-4BB6-B62B-BF4C3E86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7F4F-647E-47F9-A20B-069BEF0F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3845-E5E0-4382-ACD5-7CA5BAAC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391-E36E-4BE4-B0AA-DBB88B4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5737-8C56-41C9-9D1B-C8A4EC0D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D5152-42A5-414E-91F9-2E0079F7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5CF8B-9C11-47F4-BB95-22F211DD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1EE75-373A-461F-A074-E79D702B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B8292-810D-492C-A132-DDE9C375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36D0-41BB-47C2-87BD-585DCAD7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0B2CD-7A77-4113-8771-BBCBAA47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528C-23A2-422F-AFDA-588CAF7D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9E52-9001-44F2-9B65-8D6CE83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52F5-BC5C-4A84-A06E-90CD570E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1E1-B984-4A7D-BEFF-497F1E4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EE713-92ED-40C6-88D7-B48C488B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A5B19-6450-4B6F-ADA1-28A70C96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3F1E8-F905-46BE-84C4-759E8A67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C14A6-314D-42B3-8ED0-B2D23369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FC8B-CC39-4667-ADC7-AEE0DF77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8AAA6-2D3D-4A2E-81D0-0C0DADEA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6C4D-EFD0-4879-A127-89AD82B9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6EB19-B85E-40E0-8039-3B42C334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130E3-A4BD-4E11-A1EA-FD7A15BD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5764-4AC4-42B8-8CAE-206A4C5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1DD-4987-4FC5-A6C3-B3215F85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0CCC1-4FD5-44EA-A5F2-7C6266DF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102B8-28E8-4D4D-9282-DE2E1B60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1E527-D86D-4458-B8DC-38D7F6EC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396E-E0CC-4F95-98E0-43BCAD6E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D18D4-245B-4CDC-B201-3ACB282B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0051-2596-448E-88A5-78A352E3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7F088-DD31-49EC-9014-48DE0C07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F9DEF-AB1F-4EEF-A8B7-75E1F65A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5440E-9FDC-43C3-ACA0-11E639A5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A59A5-D4FC-4834-BFB0-283FFBA1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8A4-1F79-4440-B476-4B3712AA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E17DC-A713-40DB-8CEE-30E3E85E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04CD1-C3B1-4DB1-8517-8A739B0E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7F268-B133-41CE-BC3A-54E23E32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01DF8-87AD-4F97-9219-90F0BDEF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67150-44AB-4222-899D-24BDAB0A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C440-53DA-40F5-8299-A7AACD3C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7701-F42C-4002-B7B8-C8F1FF0C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F1DEF-770B-4DB1-8954-BBC88337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F09A7-2521-414F-BEBC-A0B9E7E8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D37B5-7528-4B77-B647-474A09CE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21D-ED01-41D3-8D84-D27E3403EF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12BC-C25B-4F43-B822-44FDD118A3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E51D-A086-438B-87EC-27D8E89623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5E99-6D7D-4F2C-8C37-006BBF0028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6601-62A0-4422-AC07-F16544091B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CE04-E3F9-4D9B-9AD1-7EE47B7874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B9BE-52A7-414A-9152-B78069920D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43BD-BD90-4406-884F-BE02929228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8CDF-2444-45BC-A05C-CEC3F0B3D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4F3A-3722-4E05-9F6A-232E506268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462D-9573-4E7B-B139-25EAAEB27C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D923-A12F-4B22-A1B9-8C537B5CE5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0491-D152-49D2-B626-BCC048731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3F9-93DF-4461-97C1-58A6E1474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79B8-EDD3-41F0-BC39-7513C6056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590B-3187-413F-90F9-EDE081F4F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12F9-840C-4D9B-9F46-759ED04BB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0E45-9646-466C-A431-1C8861F4F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D955-1A27-48DF-8EBF-E0AB2B4B53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5D18-A739-47A2-9B67-F555EA165D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9AE9-14E4-4969-9230-AE8D32442E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E6D0-EACB-49AA-941B-4C48C4C4C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141D-B4F8-44C3-A93D-EB260F58CA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306D-7C18-4E76-A105-57E91B44DF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CB5F-5357-4793-9563-057DBFEC4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E020-C059-43C1-A3F7-5E759222E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85E0-4073-4401-B317-368E6332F9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EA4D-A85A-4339-8AEC-1FB6224AE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8026-8254-471A-92B6-46CBFD5AF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4A2F-78BC-46EB-BB75-D921C6C9E4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71B5-2185-43B7-B976-DA1B62CBD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DCF7-4118-4362-BCDB-26E42FD35B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3F50-25FC-4610-AB02-AC6A4B77B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92D1-6C92-47AB-AEDC-195C39A58E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20B7-9668-47F9-AAF5-3F508AB7B7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37C8-DD94-45DC-B515-5EB3BCF344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6F4C-C661-4517-93B9-235FE0CA3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B592-0721-4C20-BA59-155C55A76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29A9-122C-4BAE-9642-FDFE91E5B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709720" y="1628640"/>
            <a:ext cx="3724560" cy="98136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985680" y="2852640"/>
            <a:ext cx="7172640" cy="83844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053" descr=""/>
          <p:cNvPicPr/>
          <p:nvPr/>
        </p:nvPicPr>
        <p:blipFill>
          <a:blip r:embed="rId3"/>
          <a:stretch/>
        </p:blipFill>
        <p:spPr>
          <a:xfrm>
            <a:off x="2556000" y="393372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3313" descr=""/>
          <p:cNvPicPr/>
          <p:nvPr/>
        </p:nvPicPr>
        <p:blipFill>
          <a:blip r:embed="rId1"/>
          <a:stretch/>
        </p:blipFill>
        <p:spPr>
          <a:xfrm>
            <a:off x="376200" y="1090440"/>
            <a:ext cx="8391600" cy="4677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1476360" y="206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1476360" y="28065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1476360" y="364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1476360" y="4365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6"/>
          <a:stretch/>
        </p:blipFill>
        <p:spPr>
          <a:xfrm>
            <a:off x="1476360" y="5157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4337" descr=""/>
          <p:cNvPicPr/>
          <p:nvPr/>
        </p:nvPicPr>
        <p:blipFill>
          <a:blip r:embed="rId1"/>
          <a:stretch/>
        </p:blipFill>
        <p:spPr>
          <a:xfrm>
            <a:off x="1380960" y="1285920"/>
            <a:ext cx="6382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6" name="图片 22529" descr=""/>
          <p:cNvPicPr/>
          <p:nvPr/>
        </p:nvPicPr>
        <p:blipFill>
          <a:blip r:embed="rId1"/>
          <a:stretch/>
        </p:blipFill>
        <p:spPr>
          <a:xfrm>
            <a:off x="333360" y="995400"/>
            <a:ext cx="8477280" cy="48672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3780000" y="20019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5148360" y="2852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4643280" y="37036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6588000" y="4508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6"/>
          <a:stretch/>
        </p:blipFill>
        <p:spPr>
          <a:xfrm>
            <a:off x="3924360" y="53132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5" descr=""/>
          <p:cNvPicPr/>
          <p:nvPr/>
        </p:nvPicPr>
        <p:blipFill>
          <a:blip r:embed="rId1"/>
          <a:stretch/>
        </p:blipFill>
        <p:spPr>
          <a:xfrm>
            <a:off x="123840" y="814320"/>
            <a:ext cx="8896320" cy="5639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6084720" y="34750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3708360" y="51102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322800" y="59626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20481" descr=""/>
          <p:cNvPicPr/>
          <p:nvPr/>
        </p:nvPicPr>
        <p:blipFill>
          <a:blip r:embed="rId1"/>
          <a:stretch/>
        </p:blipFill>
        <p:spPr>
          <a:xfrm>
            <a:off x="414360" y="2138400"/>
            <a:ext cx="8315280" cy="25812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3995640" y="3992400"/>
            <a:ext cx="720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8193" descr=""/>
          <p:cNvPicPr/>
          <p:nvPr/>
        </p:nvPicPr>
        <p:blipFill>
          <a:blip r:embed="rId1"/>
          <a:stretch/>
        </p:blipFill>
        <p:spPr>
          <a:xfrm>
            <a:off x="200160" y="752400"/>
            <a:ext cx="8743680" cy="57722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9217" descr=""/>
          <p:cNvPicPr/>
          <p:nvPr/>
        </p:nvPicPr>
        <p:blipFill>
          <a:blip r:embed="rId1"/>
          <a:stretch/>
        </p:blipFill>
        <p:spPr>
          <a:xfrm>
            <a:off x="981000" y="1109520"/>
            <a:ext cx="7182000" cy="4638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332000" y="36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0241" descr=""/>
          <p:cNvPicPr/>
          <p:nvPr/>
        </p:nvPicPr>
        <p:blipFill>
          <a:blip r:embed="rId1"/>
          <a:stretch/>
        </p:blipFill>
        <p:spPr>
          <a:xfrm>
            <a:off x="399960" y="1943280"/>
            <a:ext cx="8344080" cy="29718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2289" descr=""/>
          <p:cNvPicPr/>
          <p:nvPr/>
        </p:nvPicPr>
        <p:blipFill>
          <a:blip r:embed="rId1"/>
          <a:stretch/>
        </p:blipFill>
        <p:spPr>
          <a:xfrm>
            <a:off x="104760" y="704880"/>
            <a:ext cx="8934480" cy="54482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979640" y="246708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7740720" y="245916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332000" y="326376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3635280" y="479736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7020000" y="4818240"/>
            <a:ext cx="1655640" cy="4489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7"/>
          <a:stretch/>
        </p:blipFill>
        <p:spPr>
          <a:xfrm>
            <a:off x="1547640" y="5589720"/>
            <a:ext cx="165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1265" descr=""/>
          <p:cNvPicPr/>
          <p:nvPr/>
        </p:nvPicPr>
        <p:blipFill>
          <a:blip r:embed="rId1"/>
          <a:stretch/>
        </p:blipFill>
        <p:spPr>
          <a:xfrm>
            <a:off x="409680" y="912960"/>
            <a:ext cx="8324640" cy="5324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36656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4788000" y="3263760"/>
            <a:ext cx="280836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3059280" y="5627520"/>
            <a:ext cx="2233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6:11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